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image6.wmf" ContentType="image/x-wmf"/>
  <Override PartName="/ppt/media/image7.gif" ContentType="image/gi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4FF3-8E86-4276-A01D-8C0EC4C7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D43E-EC29-41D2-A24B-A8C6D1B4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8D57-4CF5-4D56-9540-EF8A5B59F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82BD-DF74-4664-9726-E67C0DF8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B51C-3884-4624-9736-84011374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D9B1-2746-485E-8E5D-DF08DE8B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4532-B158-40ED-89D8-66A1DC27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F8A0-80E7-49EC-BA23-33DABF21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5118-C341-416C-8F9C-030B3E82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4D5E-5B26-483C-8B75-685BAF50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EF88-CDF6-48E8-A6AA-042EC4B7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DF2E-0795-4F86-8BF9-BF03495F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FF0D-11CF-48F5-B343-2CE6E41C2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9999"/>
                </a:solidFill>
                <a:latin typeface="Arial"/>
              </a:rPr>
              <a:t>Механичка вентила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75438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ПРЕЛАЗНИ ПРОЦЕС ОД ПОТПУНЕ ЗАВИСНОСТИ ОД МВ ДО СПОНТАНОГ ДИС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ОВАЈ ПРОЦЕС СЕ МОЖЕ ОСТВАР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БРЗИМ ИЛИ ПОСТЕПЕН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ОДВАЈАЊЕМ  ОД М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9999"/>
                </a:solidFill>
                <a:latin typeface="Arial"/>
              </a:rPr>
              <a:t>ПРЕКИД МЕХАНИЧКЕ ВЕНТИЛАЦ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Wizard Casting Spell 6"/>
          <p:cNvPicPr/>
          <p:nvPr/>
        </p:nvPicPr>
        <p:blipFill>
          <a:blip r:embed="rId1"/>
          <a:stretch/>
        </p:blipFill>
        <p:spPr>
          <a:xfrm flipH="1">
            <a:off x="6955920" y="4267080"/>
            <a:ext cx="2187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5600" y="529920"/>
            <a:ext cx="852804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9999"/>
                </a:solidFill>
                <a:latin typeface="Arial"/>
              </a:rPr>
              <a:t>ПРЕКИД МЕХАНИЧКЕ ВЕНТИЛАЦ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Разумети индикације за М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Проценити технику одвикавања од М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Препознати пацијенте којима је неопходно увести неки други облик М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Наставак МВ захтева  планирање других  интервенц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(трахеостома, вентилаторно   олаксањ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15960" y="1925640"/>
            <a:ext cx="852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Да би се остварио успешан прекид неопхо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је следећ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99"/>
                </a:solidFill>
                <a:latin typeface="Arial"/>
              </a:rPr>
              <a:t>Најчешће коришћени параметри за прекид М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09480" y="2209680"/>
            <a:ext cx="8077320" cy="43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Хемодинамска, церебрална и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метаболичка стабил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Температура &lt; 38 °</a:t>
            </a:r>
            <a:r>
              <a:rPr b="1" lang="pl-PL" sz="2800" spc="-1" strike="noStrike">
                <a:solidFill>
                  <a:srgbClr val="009999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Способност одржавања дисајног пу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Евиденција парцијалне или потпуне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резолуције процеса који је довео д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интуб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eyeball"/>
          <p:cNvPicPr/>
          <p:nvPr/>
        </p:nvPicPr>
        <p:blipFill>
          <a:blip r:embed="rId1"/>
          <a:stretch/>
        </p:blipFill>
        <p:spPr>
          <a:xfrm>
            <a:off x="0" y="990720"/>
            <a:ext cx="12193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Респираторна фреквенца &lt;25 удаха у мину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Тидал волуме &gt;5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mL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Витални капацитет &gt;10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mL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Минутна вентилација &lt;10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L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PaO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2/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FIO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2 &gt;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Шант (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Qs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Qt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) &lt;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Негативна инспираторна сила/”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force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” (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NIF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) &lt; -25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cm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f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Vt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 &lt; 105, или &lt;130 код старијих пацијен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9999"/>
                </a:solidFill>
                <a:latin typeface="Arial"/>
              </a:rPr>
              <a:t>К</a:t>
            </a: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омпликациј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4400" spc="-1" strike="noStrike">
                <a:solidFill>
                  <a:srgbClr val="009999"/>
                </a:solidFill>
                <a:latin typeface="Arial"/>
              </a:rPr>
              <a:t>м</a:t>
            </a: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еханичке</a:t>
            </a:r>
            <a:r>
              <a:rPr b="1" lang="sr-CS" sz="4400" spc="-1" strike="noStrike">
                <a:solidFill>
                  <a:srgbClr val="009999"/>
                </a:solidFill>
                <a:latin typeface="Arial"/>
              </a:rPr>
              <a:t> вентилације</a:t>
            </a:r>
            <a:br>
              <a:rPr sz="4400"/>
            </a:br>
            <a:r>
              <a:rPr b="1" lang="sr-CS" sz="4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Механичке</a:t>
            </a:r>
            <a:r>
              <a:rPr b="1" lang="sr-CS" sz="4000" spc="-1" strike="noStrike">
                <a:solidFill>
                  <a:srgbClr val="009999"/>
                </a:solidFill>
                <a:latin typeface="Arial"/>
              </a:rPr>
              <a:t> компликације</a:t>
            </a:r>
            <a:br>
              <a:rPr sz="4000"/>
            </a:br>
            <a:r>
              <a:rPr b="1" lang="sr-CS" sz="4000" spc="-1" strike="noStrike">
                <a:solidFill>
                  <a:srgbClr val="009999"/>
                </a:solidFill>
                <a:latin typeface="Arial"/>
              </a:rPr>
              <a:t>Медицинске комплика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94120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1.Компликације у вези интубације и екстубац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Отежана интубац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Повреда врата,уста и горњих респ</a:t>
            </a:r>
            <a:r>
              <a:rPr b="1" lang="sr-CS" sz="2800" spc="-1" strike="noStrike">
                <a:solidFill>
                  <a:srgbClr val="009999"/>
                </a:solidFill>
                <a:latin typeface="Arial"/>
              </a:rPr>
              <a:t>ираторних </a:t>
            </a: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путе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Малпозиција тубуса</a:t>
            </a:r>
            <a:r>
              <a:rPr b="1" lang="sr-C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-</a:t>
            </a:r>
            <a:r>
              <a:rPr b="1" lang="sr-C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езофагус,</a:t>
            </a:r>
            <a:r>
              <a:rPr b="1" lang="sr-C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брон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Превремна екстуб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Самоекстубац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2.Компликације у вези са тубус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Малфункција тубуса о</a:t>
            </a:r>
            <a:r>
              <a:rPr b="1" lang="sr-CS" sz="3200" spc="-1" strike="noStrike">
                <a:solidFill>
                  <a:srgbClr val="009999"/>
                </a:solidFill>
                <a:latin typeface="Arial"/>
              </a:rPr>
              <a:t>п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струкција,</a:t>
            </a:r>
            <a:r>
              <a:rPr b="1" lang="sr-C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ротација,</a:t>
            </a:r>
            <a:r>
              <a:rPr b="1" lang="sr-C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компрес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Назална некроза и синуз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Оште</a:t>
            </a:r>
            <a:r>
              <a:rPr b="1" lang="sr-CS" sz="3200" spc="-1" strike="noStrike">
                <a:solidFill>
                  <a:srgbClr val="009999"/>
                </a:solidFill>
                <a:latin typeface="Arial"/>
              </a:rPr>
              <a:t>ћ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ење ларинкса</a:t>
            </a:r>
            <a:r>
              <a:rPr b="1" lang="sr-CS" sz="32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едем, гранулом, улцерација, пареза глас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Трахеомалација и трахеална стен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Компликације везане за каф -аспирација и цурење к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3.Компликације у вези са руковањем апара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Неисправан апа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Неисправни или лоше регулисани алар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Дисконекција пацијента од апа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Неадекватно грејање и влажење инспираторног ваздуха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Медицинске компликациј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Токсичност кисео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Волутра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Баротра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Асинхрона вентил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ВА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Промена кардиоваскулар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фун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Стрес улк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Дистензија желу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Психичка тра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9999"/>
                </a:solidFill>
                <a:latin typeface="Arial"/>
              </a:rPr>
              <a:t>Улога трахеотомије код пацијената зависнох од вентилат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комфор пацијента је бољ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ефикасније чишцење дисајних пут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смањена резистенца дисајних путева због умањеног дисајног рада и сниженог пика инспираторног прити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боља мобилност пациј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већа могу</a:t>
            </a:r>
            <a:r>
              <a:rPr b="1" lang="sr-CS" sz="2400" spc="-1" strike="noStrike">
                <a:solidFill>
                  <a:srgbClr val="009999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ност го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орални унос х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већа безбедност дисајног пу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релативно мања могућност настанка пнеумоније због дуготрајне артефицијалне вентил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убрзава процес одвикавања од вентила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могућност измештања пацијента из јединице интензивне не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смањена потреба за седативима и аналгетиц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Негативне стране трахеотомије су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периоперативне компликације у вези са хируршком интервенц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повреда дисајног пута за дужи временски пери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повећање трошкова леч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800240" y="1523880"/>
            <a:ext cx="38862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1776. год Џон Хантер је описао коришћење система дуплих ваздушних мех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Средином X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X века почињу да се конструишу механички апарати за вентилациј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1929. год,  Филип Дринкер из Бостона је описао ''челична плућа''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99"/>
                </a:solidFill>
                <a:latin typeface="Arial"/>
              </a:rPr>
              <a:t>1947.год, Бот је направио преко 1.700 тенк вентила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azo8"/>
          <p:cNvPicPr/>
          <p:nvPr/>
        </p:nvPicPr>
        <p:blipFill>
          <a:blip r:embed="rId1"/>
          <a:stretch/>
        </p:blipFill>
        <p:spPr>
          <a:xfrm>
            <a:off x="380880" y="1523880"/>
            <a:ext cx="3886200" cy="5029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9999"/>
                </a:solidFill>
                <a:latin typeface="Arial"/>
              </a:rPr>
              <a:t>ИСТОРИЈАТ МЕХАНИЧКЕ ВЕНТИЛА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9999"/>
                </a:solidFill>
                <a:latin typeface="Arial"/>
              </a:rPr>
              <a:t>Екстубација болесн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9999"/>
                </a:solidFill>
                <a:latin typeface="Arial"/>
              </a:rPr>
              <a:t>Критеријуми за екстуб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Општи знаци</a:t>
            </a:r>
            <a:r>
              <a:rPr b="1" lang="sr-C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lang="ru-RU" sz="3200" spc="-1" strike="noStrike">
                <a:solidFill>
                  <a:srgbClr val="009999"/>
                </a:solidFill>
                <a:latin typeface="Arial"/>
              </a:rPr>
              <a:t>Стање кардиоваскуларног, респираторног система и опште стање стабил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Размена</a:t>
            </a:r>
            <a:r>
              <a:rPr b="1" lang="sr-C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гасова</a:t>
            </a:r>
            <a:r>
              <a:rPr b="1" lang="sr-C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1" lang="sr-C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(FiO2 = 0,3)PaO2 &gt; 60 mm HgPaCO2 35 - 45 mm H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H 7,35 – 7,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Права револуција механичких вентилатора настала је крајем 1952. године, у време епидемије полиомиелитиса у Копенхаге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polio 1"/>
          <p:cNvPicPr/>
          <p:nvPr/>
        </p:nvPicPr>
        <p:blipFill>
          <a:blip r:embed="rId1"/>
          <a:stretch/>
        </p:blipFill>
        <p:spPr>
          <a:xfrm>
            <a:off x="0" y="1600200"/>
            <a:ext cx="4699080" cy="502920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5"/>
          <p:cNvSpPr/>
          <p:nvPr/>
        </p:nvSpPr>
        <p:spPr>
          <a:xfrm>
            <a:off x="0" y="152280"/>
            <a:ext cx="8991720" cy="8384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ИСТОРИЈАТ МЕХАНИЧКЕ ВЕНТИЛ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ИНДИКАЦИЈЕ ЗА ПРИМЕНУ МЕХАНИЧКЕ ВЕНТИЛ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акутни респираторни дистрес синдром (АРДС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конгестивна срчана слаб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сеп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акутна егзацербација хроничне опструктивне болести плућа (HOBP) отпорна на конзервативну терап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неспособност обезбеђења дисајног пута као резултат неуролошке дисфун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анесте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предозирање леков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aa"/>
          <p:cNvPicPr/>
          <p:nvPr/>
        </p:nvPicPr>
        <p:blipFill>
          <a:blip r:embed="rId1"/>
          <a:stretch/>
        </p:blipFill>
        <p:spPr>
          <a:xfrm>
            <a:off x="228600" y="1523880"/>
            <a:ext cx="392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9999"/>
                </a:solidFill>
                <a:latin typeface="Arial"/>
              </a:rPr>
              <a:t>Критеријуми за примену М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5288040"/>
        </p:xfrm>
        <a:graphic>
          <a:graphicData uri="http://schemas.openxmlformats.org/drawingml/2006/table">
            <a:tbl>
              <a:tblPr/>
              <a:tblGrid>
                <a:gridCol w="2739960"/>
                <a:gridCol w="2889360"/>
                <a:gridCol w="260028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Механика дисањ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Индикована вентилациј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Нормалне вред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Фреквенца дисањ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&gt;35 respiracija/m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12-20 /m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Витални капацит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&lt;15ml/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65-75 ml/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FE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&lt;10ml/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50-65 ml/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Инспираторна сна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&lt;25 cmH2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75-100 cmH2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T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&lt;3.5ml/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6-8 ml/kg T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КЛИНИЧКИ ЦИЉЕВИ МЕХАНИЧКЕ ВЕНТИЛАЦИЈ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СМАЊИТИ РЕСПИРАТОРНИ ДИСТР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ОДМОРИТИ РЕСПИРАТОРНУ МУСКУЛАТ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СМАЊИТИ ДИСАЈНИ Р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ПОБОЉШАТИ ОКСИГЕН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ПРЕВЕНИРАТИ ИЛИ СМАЊИТИ АТЕЛЕКТ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ПОБОЉШАТИ ВЕНТИЛ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СМАЊИТИ ПОТРОШЊУ КИСЕО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СТАБИЛИЗОВАТИ ТОРАКАЛНИ З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ПРЕВЕНИРАТИ КОМПЛИК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lung_animation"/>
          <p:cNvPicPr/>
          <p:nvPr/>
        </p:nvPicPr>
        <p:blipFill>
          <a:blip r:embed="rId1"/>
          <a:stretch/>
        </p:blipFill>
        <p:spPr>
          <a:xfrm>
            <a:off x="6629400" y="4648320"/>
            <a:ext cx="23623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9999"/>
                </a:solidFill>
                <a:latin typeface="Arial"/>
              </a:rPr>
              <a:t>Мониторинг М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За сваког пацијента код кога се спроводи МВ мора се водити листа у коју се уписују следећи подац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Разлог и време започињања М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Облик МВ и параметри, као и све про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Лабораторијски резултати: КС, гасне анализе арт. крви, анализа удахнутог и издахнутог ваздуха, електролитни и ацидобазни стату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Код сваког пацијента на МВ спроводи се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континуирани ЕКГ монитор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физикални преглед – аускултација гр. коша и плућ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Ртг испитивања – обавезно по започињању МВ, а по могућности пре (Ртг преглед грудног коша даје пуно информација, али није до краја прецизна и специфична мето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9999"/>
                </a:solidFill>
                <a:latin typeface="Arial"/>
              </a:rPr>
              <a:t>ЦТ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9999"/>
                </a:solidFill>
                <a:latin typeface="Arial"/>
              </a:rPr>
              <a:t>Клнички принципи М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Уобичајена Тх за дату патолог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Седација/аналг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Назогастрична со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Хигијена трахеалног стаб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Физиотерап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orisnik</dc:creator>
  <dc:description/>
  <dc:language>en-US</dc:language>
  <cp:lastModifiedBy>Korisnik</cp:lastModifiedBy>
  <dcterms:modified xsi:type="dcterms:W3CDTF">2020-04-28T17:57:3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